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2AD8-BEC2-4A84-B8C2-F6239F95C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327F-8237-4EB1-BDC3-F82113867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3BB0-9F80-4255-8CB0-D433211C4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morning-earth.org/Graphic-E/SymbiosisProcary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F55E-CBED-46EA-A6EF-2F1441948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Carl_Linna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ish bota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2084-0588-4E9E-8C0A-04C8E676D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3ubio.weebly.com/taxonom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DECB-1CDC-4728-A22A-B26017F09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taken from: http://biology-igcse.weebly.com/dichotomous-key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D10D-859B-43B6-B321-98B487CBE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taken from: http://biology-igcse.weebly.com/dichotomous-key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DA4-6071-4DB7-9827-845DEDBB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taken from: http://biology-igcse.weebly.com/dichotomous-key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B282-ED4E-48E7-A3EC-696EF394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nx.org/contents/79849572-b29d-401b-9c26-c37ff1e3cafd@5/Classification_of_Matter_-_G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CDBF-9901-4525-9457-EE9E10567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content/variation-within-species-4308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within species…colouration of these butterflies depends on season when they were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404F-7936-4EC1-81E5-E59CF5856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nrg/journal/v10/n11/fig_tab/nrg2687_F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within species…sexual dimorph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841D-16A0-4212-9970-13B8F31DF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Eclectus_p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ectus parrot (male is green, female is 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5E2C-5817-4B4B-B0E3-A2D54363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esources.mhs.vic.edu.au/macbeth/historical/elizabord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03EE-8217-4000-9BD6-DAFEBE069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s://facinatingamazinganimals.wordpress.com/tag/anima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882-86C1-4467-8383-2E0EE1E0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9DF-74C2-4582-9E32-0882A692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FA5-D5B9-4035-A41D-8F963754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F1A-44C8-47CE-B14A-46C9C783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F4F-C8E0-4DDA-AFB4-E982560F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026-A3F7-404A-9198-028E69A1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973-67B2-4D48-ACE7-E949F616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F3C-D2DB-45D3-B146-A721F347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830-8CC6-4A41-866F-05CF7D32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A58-8289-4B57-85A6-08500483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ACE-EDAB-42FA-936D-D089D99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EA9-77A9-417C-B064-29BF3071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D064-EDF1-4199-81B6-6F99C4BFA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kingdoms"/>
          <p:cNvPicPr/>
          <p:nvPr/>
        </p:nvPicPr>
        <p:blipFill>
          <a:blip r:embed="rId1"/>
          <a:stretch/>
        </p:blipFill>
        <p:spPr>
          <a:xfrm>
            <a:off x="1785960" y="1981080"/>
            <a:ext cx="557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 Linnaeus (1707-177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 of taxonom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naming syste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omial nomencl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 sapi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40px-Carl_von_Linné"/>
          <p:cNvPicPr/>
          <p:nvPr/>
        </p:nvPicPr>
        <p:blipFill>
          <a:blip r:embed="rId1"/>
          <a:stretch/>
        </p:blipFill>
        <p:spPr>
          <a:xfrm>
            <a:off x="4921200" y="1981080"/>
            <a:ext cx="3721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ication of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teria used to classify organisms can be used when attempting to identif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chotomous ke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to identify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hotomou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7481061_orig"/>
          <p:cNvPicPr/>
          <p:nvPr/>
        </p:nvPicPr>
        <p:blipFill>
          <a:blip r:embed="rId1"/>
          <a:stretch/>
        </p:blipFill>
        <p:spPr>
          <a:xfrm>
            <a:off x="380880" y="1693800"/>
            <a:ext cx="84582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pecies of trees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796518"/>
          <p:cNvPicPr/>
          <p:nvPr/>
        </p:nvPicPr>
        <p:blipFill>
          <a:blip r:embed="rId1"/>
          <a:stretch/>
        </p:blipFill>
        <p:spPr>
          <a:xfrm>
            <a:off x="2496960" y="1981080"/>
            <a:ext cx="414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hotomou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6944913_orig"/>
          <p:cNvPicPr/>
          <p:nvPr/>
        </p:nvPicPr>
        <p:blipFill>
          <a:blip r:embed="rId1"/>
          <a:stretch/>
        </p:blipFill>
        <p:spPr>
          <a:xfrm>
            <a:off x="1006560" y="1981080"/>
            <a:ext cx="712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6944913_orig"/>
          <p:cNvPicPr/>
          <p:nvPr/>
        </p:nvPicPr>
        <p:blipFill>
          <a:blip r:embed="rId1"/>
          <a:stretch/>
        </p:blipFill>
        <p:spPr>
          <a:xfrm>
            <a:off x="1763640" y="189000"/>
            <a:ext cx="712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796518"/>
          <p:cNvPicPr/>
          <p:nvPr/>
        </p:nvPicPr>
        <p:blipFill>
          <a:blip r:embed="rId2"/>
          <a:stretch/>
        </p:blipFill>
        <p:spPr>
          <a:xfrm>
            <a:off x="250920" y="2627280"/>
            <a:ext cx="414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 items into various categories based on a set of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categories/criteria would you use to sort your music? your books? your clothing? items in a grocery st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G10C1_001"/>
          <p:cNvPicPr/>
          <p:nvPr/>
        </p:nvPicPr>
        <p:blipFill>
          <a:blip r:embed="rId1"/>
          <a:stretch/>
        </p:blipFill>
        <p:spPr>
          <a:xfrm>
            <a:off x="685800" y="2478240"/>
            <a:ext cx="77724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Living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science of classifying all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characteristics might be used to classify living organisms into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of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0"/>
          <p:cNvPicPr/>
          <p:nvPr/>
        </p:nvPicPr>
        <p:blipFill>
          <a:blip r:embed="rId1"/>
          <a:stretch/>
        </p:blipFill>
        <p:spPr>
          <a:xfrm>
            <a:off x="685800" y="2023920"/>
            <a:ext cx="77724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of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nrg2687-f1"/>
          <p:cNvPicPr/>
          <p:nvPr/>
        </p:nvPicPr>
        <p:blipFill>
          <a:blip r:embed="rId1"/>
          <a:stretch/>
        </p:blipFill>
        <p:spPr>
          <a:xfrm>
            <a:off x="387360" y="1676520"/>
            <a:ext cx="829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pec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ganisms capable of breeding freely with each other under natural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300px-Eclectus_roratus-20030511"/>
          <p:cNvPicPr/>
          <p:nvPr/>
        </p:nvPicPr>
        <p:blipFill>
          <a:blip r:embed="rId1"/>
          <a:stretch/>
        </p:blipFill>
        <p:spPr>
          <a:xfrm>
            <a:off x="4648320" y="2959200"/>
            <a:ext cx="38098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4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in of Be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hain-of-being01"/>
          <p:cNvPicPr/>
          <p:nvPr/>
        </p:nvPicPr>
        <p:blipFill>
          <a:blip r:embed="rId1"/>
          <a:stretch/>
        </p:blipFill>
        <p:spPr>
          <a:xfrm>
            <a:off x="4932360" y="304920"/>
            <a:ext cx="3011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onomic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levels_of_classification"/>
          <p:cNvPicPr/>
          <p:nvPr/>
        </p:nvPicPr>
        <p:blipFill>
          <a:blip r:embed="rId1"/>
          <a:stretch/>
        </p:blipFill>
        <p:spPr>
          <a:xfrm>
            <a:off x="2347920" y="1600200"/>
            <a:ext cx="444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5:10:11Z</dcterms:created>
  <dc:creator>rubina khan</dc:creator>
  <dc:description/>
  <dc:language>en-US</dc:language>
  <cp:lastModifiedBy>rubina khan</cp:lastModifiedBy>
  <dcterms:modified xsi:type="dcterms:W3CDTF">2015-09-10T13:31:32Z</dcterms:modified>
  <cp:revision>70</cp:revision>
  <dc:subject/>
  <dc:title>PowerPoint Presentation</dc:title>
</cp:coreProperties>
</file>